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4B2-6E53-4AAC-9CF0-FEBB8729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83B-FD18-4740-8BD1-9AC4BC46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228-B9EE-4E97-9125-FCED3CEA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9F7-C8F8-4981-A81F-9F1670E9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0B9-B781-4D3C-8CDB-986CA95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241-9191-4F9B-85F2-A163CCDE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8D1-6706-4240-8E55-04BBD764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101-02FA-4E8E-8D71-D681EFF2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CA4-D7DD-44F5-BA38-6F409FE0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223-B08C-4E78-B868-6E9534B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83C-9167-45A0-B888-24137A80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6BB-B56D-477F-94F5-CE069ED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0A8C-A162-4C44-B3D0-36BF7F6A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Probability &amp; Gene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1268280"/>
            <a:ext cx="914400" cy="87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05120" y="41911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ction 11-2 Probability and Punnett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at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The likelihood a particular event will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in fl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hances of head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Chances of 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Two c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Chances of two heads?  Two tails?  Heads &amp; tai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FM Universit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FM University"/>
              </a:rPr>
              <a:t>2. Rule of 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ast events do not affect future probabilities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INDEPEND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91440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B. Punnett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d to show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sible outco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trait  according to the traits of the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What will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so show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How often it could hap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26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Example: Ee x 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quares represent possible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Each offspring gets one gene from “dad” (from the t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nd one gene from “Mom” (from the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What % of the offspring will have free earlo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What % will have attached 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What % will be heterozygous for the tra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00800" y="2743200"/>
          <a:ext cx="2514600" cy="2514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85800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43434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971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133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1523880"/>
            <a:ext cx="838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3352680"/>
            <a:ext cx="380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Fast Pattern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391520" cy="4419720"/>
        </p:xfrm>
        <a:graphic>
          <a:graphicData uri="http://schemas.openxmlformats.org/drawingml/2006/table">
            <a:tbl>
              <a:tblPr/>
              <a:tblGrid>
                <a:gridCol w="2463840"/>
                <a:gridCol w="2260440"/>
                <a:gridCol w="26672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hybrid 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otype Ratio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T : Tt : t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type Ratio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all : sh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t x 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659400" y="23623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9400" y="2819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40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940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94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9400" y="5029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9400" y="5638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76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7680" y="3352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768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4000" y="3962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4000" y="4419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74000" y="5638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21:22:30Z</dcterms:created>
  <dc:creator>udsd</dc:creator>
  <dc:description/>
  <dc:language>en-US</dc:language>
  <cp:lastModifiedBy>udsd</cp:lastModifiedBy>
  <dcterms:modified xsi:type="dcterms:W3CDTF">2010-04-19T20:16:02Z</dcterms:modified>
  <cp:revision>6</cp:revision>
  <dc:subject/>
  <dc:title>Probability &amp; Genetics</dc:title>
</cp:coreProperties>
</file>